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F2E7-72B0-44CF-BFA5-57B33D13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cheney7a4science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Baking_soda_and_vinega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ombu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t image from: http://blogs.mcgill.ca/oss/2013/05/06/if-you-were-using-“cathodic-protection”-what-would-you-be-trying-to-protect/ru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tarnish from: http://silvertarnishing.com/ways-to-remove-silver-tarnish-–-a-gu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ice melting from: http://blog.thesietch.org/2007/08/23/arctic-will-melt-to-projected-2050-levels-this-yea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paper cut up from: http://janetgover.com/?p=27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3A6-8794-469A-A5C6-036CD805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40E-86B5-44A5-8092-82E888E0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E59-6137-416D-B193-8ADAA944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609-114A-4157-9AE3-2D495BB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24C-CC60-404E-A5E7-B374BE7C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FE9-6A98-4674-B979-C164D1F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D82-AFF4-4EF4-B3D2-D3166DC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A3B-AA8E-4E9A-A3C5-8AE134D7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D91-0C3E-446A-86B2-16515B5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C80-AF1E-42A7-93F3-4E8E596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547-A2DA-474E-8BBB-D734BAD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0F7-E624-4760-8704-FC56CF5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E8BE-FA0C-45E4-99CF-DC7E5013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substance changes and produces one or more new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8960" y="3581280"/>
            <a:ext cx="7964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haracteristic of a substance that can be observed when it reacts to produce new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2629080"/>
            <a:ext cx="4343400" cy="28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of a substance to b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38600" y="16765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038400"/>
            <a:ext cx="38862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287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19:34:58Z</dcterms:created>
  <dc:creator>rubina khan</dc:creator>
  <dc:description/>
  <dc:language>en-US</dc:language>
  <cp:lastModifiedBy>rubina khan</cp:lastModifiedBy>
  <dcterms:modified xsi:type="dcterms:W3CDTF">2014-11-27T19:59:14Z</dcterms:modified>
  <cp:revision>11</cp:revision>
  <dc:subject/>
  <dc:title>Chemical Properties</dc:title>
</cp:coreProperties>
</file>